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0AE-02AE-43F5-A8BD-E070EDFF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5E6-53FE-4E9D-8CD6-4D079F3A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28C-C0A5-4B98-AD22-89597403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E4C-31C8-45C1-987F-3F124E5D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64A65-93B8-40D8-A7D2-F2E6A6B0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E74F6-30D5-4B72-9BD7-4D305A59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C054C-BD35-470B-8A69-CB8DA44A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152D1-A633-4482-AB2D-9B4812BE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71255-C8C6-4340-930A-6ABC275E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6B5EB-37D1-46F4-800C-1BD26340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23A63-319F-419C-AB55-D61249E8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CA8-12D0-4CE4-87B3-74278CE1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FF757-3520-49C0-BBE3-E8305439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871FB-92ED-4EDC-BFB2-562FED6A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FE61D-20B3-456B-B401-523386ED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90F21-5DCE-42C2-9E98-9229ED3F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8477F-13FE-44E8-91B4-BEC9FA79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AF7-1272-4036-B6B5-E4517711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EED-D1DB-46B5-B193-3278CE39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1CB-0F9D-4DD0-B39F-12ED61F1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F52-0D58-4EC4-8351-DEBEBB77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E13-AA0E-4A7D-AD7E-6D9C2AE9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EBC-AE7B-42AC-A538-A6D8FB83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0EC-C999-4962-93C2-CB77C221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8557-FBF0-4E65-8AC1-AB1EE97184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EA83-CF8D-4D28-B4F3-99C9DA666B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emistry.wustl.edu/~courses/genchem/Tutorials/Kidney/dynamic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3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Membran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5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ments show that lipid molecules can pass across the plasma membrane from an area of high concentration to an area of lower concentration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which process do the molecules move across the plasma membrane?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the cell expend energy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>
            <a:hlinkClick r:id="rId2"/>
          </p:cNvPr>
          <p:cNvSpPr/>
          <p:nvPr/>
        </p:nvSpPr>
        <p:spPr>
          <a:xfrm>
            <a:off x="6934320" y="5181480"/>
            <a:ext cx="1218960" cy="914400"/>
          </a:xfrm>
          <a:custGeom>
            <a:avLst/>
            <a:gdLst>
              <a:gd name="textAreaLeft" fmla="*/ 59040 w 1218960"/>
              <a:gd name="textAreaRight" fmla="*/ 1159920 w 121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791" h="21600">
                <a:moveTo>
                  <a:pt x="0" y="0"/>
                </a:moveTo>
                <a:lnTo>
                  <a:pt x="28791" y="0"/>
                </a:lnTo>
                <a:lnTo>
                  <a:pt x="28791" y="21600"/>
                </a:lnTo>
                <a:lnTo>
                  <a:pt x="0" y="21600"/>
                </a:lnTo>
                <a:close/>
              </a:path>
              <a:path fill="lightenLess" w="28791" h="21600">
                <a:moveTo>
                  <a:pt x="0" y="0"/>
                </a:moveTo>
                <a:lnTo>
                  <a:pt x="28791" y="0"/>
                </a:lnTo>
                <a:lnTo>
                  <a:pt x="27391" y="1400"/>
                </a:lnTo>
                <a:lnTo>
                  <a:pt x="1400" y="1400"/>
                </a:lnTo>
                <a:close/>
              </a:path>
              <a:path fill="darken" w="28791" h="21600">
                <a:moveTo>
                  <a:pt x="28791" y="0"/>
                </a:moveTo>
                <a:lnTo>
                  <a:pt x="28791" y="21600"/>
                </a:lnTo>
                <a:lnTo>
                  <a:pt x="27391" y="20200"/>
                </a:lnTo>
                <a:lnTo>
                  <a:pt x="27391" y="1400"/>
                </a:lnTo>
                <a:close/>
              </a:path>
              <a:path fill="darkenLess" w="28791" h="21600">
                <a:moveTo>
                  <a:pt x="28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1" y="20200"/>
                </a:lnTo>
                <a:close/>
              </a:path>
              <a:path fill="lighten" w="28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1" h="21600">
                <a:moveTo>
                  <a:pt x="1439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791" h="21600">
                <a:moveTo>
                  <a:pt x="1439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791" h="21600">
                <a:moveTo>
                  <a:pt x="11819" y="8224"/>
                </a:moveTo>
                <a:lnTo>
                  <a:pt x="15684" y="8224"/>
                </a:lnTo>
                <a:lnTo>
                  <a:pt x="15684" y="15221"/>
                </a:lnTo>
                <a:lnTo>
                  <a:pt x="16972" y="15221"/>
                </a:lnTo>
                <a:lnTo>
                  <a:pt x="16972" y="16144"/>
                </a:lnTo>
                <a:lnTo>
                  <a:pt x="11819" y="16144"/>
                </a:lnTo>
                <a:lnTo>
                  <a:pt x="11819" y="15221"/>
                </a:lnTo>
                <a:lnTo>
                  <a:pt x="13108" y="15221"/>
                </a:lnTo>
                <a:lnTo>
                  <a:pt x="13108" y="9129"/>
                </a:lnTo>
                <a:lnTo>
                  <a:pt x="11819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41:27Z</dcterms:created>
  <dc:creator>PritchaJ</dc:creator>
  <dc:description/>
  <dc:language>en-US</dc:language>
  <cp:lastModifiedBy>PritchaJ</cp:lastModifiedBy>
  <dcterms:modified xsi:type="dcterms:W3CDTF">2011-06-01T15:41:41Z</dcterms:modified>
  <cp:revision>1</cp:revision>
  <dc:subject/>
  <dc:title>Slide 1</dc:title>
</cp:coreProperties>
</file>